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B403-4596-4174-A165-6B13C59EB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A846-1B76-46F6-8EE4-A1E23C9D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8D51-F410-4B55-B5CC-2A917EA26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3DDF5-6CA5-4B4F-86D1-37DE9673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39E6-9E0E-4F20-B027-C2373F41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3962-3F11-44A6-8407-6085AEFF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C04DD-8D95-4525-8164-BA1FC100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F70F-4D5A-43FC-8381-A1200A05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E6D3-50AC-4284-94C6-7C2211966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E5338-776D-4E45-B123-352FACF3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F352-31F4-43A9-BC9A-730550BD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5F5C-16EA-46EE-A8BA-C7A68EC2B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51C3-861F-4C2F-8E6F-F9992026B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ulimia</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3640" y="4562640"/>
            <a:ext cx="66088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Brandon S., Alina R., Kelly 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Biblography</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ting Disorder Treatment- Top California Eating Disorders Rehab - The Victorian - California Eating Disorder Treatment Center." </a:t>
            </a:r>
            <a:r>
              <a:rPr b="0" i="1" lang="en-US" sz="1600" spc="-1" strike="noStrike">
                <a:solidFill>
                  <a:srgbClr val="ffffff"/>
                </a:solidFill>
                <a:latin typeface="'Times New Roman'"/>
              </a:rPr>
              <a:t>Eating Disorder Treatment- Top California Eating Disorders Rehab - The Victorian - California Eating Disorder Treatment Center</a:t>
            </a:r>
            <a:r>
              <a:rPr b="0" lang="en-US" sz="1600" spc="-1" strike="noStrike">
                <a:solidFill>
                  <a:srgbClr val="ffffff"/>
                </a:solidFill>
                <a:latin typeface="'Times New Roman'"/>
              </a:rPr>
              <a:t>. N.p., n.d. Web. 2 Sept. 2011. &lt;http://www.eatingdisordertreatment.com/&g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ting Disorders." </a:t>
            </a:r>
            <a:r>
              <a:rPr b="0" i="1" lang="en-US" sz="1600" spc="-1" strike="noStrike">
                <a:solidFill>
                  <a:srgbClr val="ffffff"/>
                </a:solidFill>
                <a:latin typeface="'Times New Roman'"/>
              </a:rPr>
              <a:t>Great Ideas in Personality--Theory and Research</a:t>
            </a:r>
            <a:r>
              <a:rPr b="0" lang="en-US" sz="1600" spc="-1" strike="noStrike">
                <a:solidFill>
                  <a:srgbClr val="ffffff"/>
                </a:solidFill>
                <a:latin typeface="'Times New Roman'"/>
              </a:rPr>
              <a:t>. N.p., n.d. Web. 2 Sept. 2011. &lt;http://www.personalityresearch.org/papers/zodda.html&g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ckley, Diane, and  MD. "Bulimia and Anorexia Medication - Eating Disorders Medicine." </a:t>
            </a:r>
            <a:r>
              <a:rPr b="0" i="1" lang="en-US" sz="1600" spc="-1" strike="noStrike">
                <a:solidFill>
                  <a:srgbClr val="ffffff"/>
                </a:solidFill>
                <a:latin typeface="'Times New Roman'"/>
              </a:rPr>
              <a:t>Bulimia.com - Eating Disorders Resource for Recovery and Education</a:t>
            </a:r>
            <a:r>
              <a:rPr b="0" lang="en-US" sz="1600" spc="-1" strike="noStrike">
                <a:solidFill>
                  <a:srgbClr val="ffffff"/>
                </a:solidFill>
                <a:latin typeface="'Times New Roman'"/>
              </a:rPr>
              <a:t>. N.p., n.d. Web. 2 Sept. 2011. &lt;http://www.bulimia.com/client/client_pages/newsletteredt11.cfm&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Bulimia?</a:t>
            </a:r>
            <a:endParaRPr b="0" lang="en-US" sz="4300" spc="-1" strike="noStrike">
              <a:solidFill>
                <a:srgbClr val="000000"/>
              </a:solidFill>
              <a:latin typeface="Times New Roman"/>
            </a:endParaRPr>
          </a:p>
        </p:txBody>
      </p:sp>
      <p:sp>
        <p:nvSpPr>
          <p:cNvPr id="44" name="PlaceHolder 2"/>
          <p:cNvSpPr>
            <a:spLocks noGrp="1"/>
          </p:cNvSpPr>
          <p:nvPr>
            <p:ph/>
          </p:nvPr>
        </p:nvSpPr>
        <p:spPr>
          <a:xfrm>
            <a:off x="250920" y="1832040"/>
            <a:ext cx="9658080" cy="4168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ulimia is a type of eating disorder that is caused when a person eats a lot of food in a short amount of time and then tries to prevent weight gain by getting rid of the food. it's common especially amoung young women that have normal or nearly normal weigh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ulimia's didnt originate at an exact place but it was first named and summurized by a British psychiatrist Gerald Russell in 197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igns and Symptoms</a:t>
            </a:r>
            <a:endParaRPr b="0" lang="en-US" sz="4300" spc="-1" strike="noStrike">
              <a:solidFill>
                <a:srgbClr val="000000"/>
              </a:solidFill>
              <a:latin typeface="Times New Roman"/>
            </a:endParaRPr>
          </a:p>
        </p:txBody>
      </p:sp>
      <p:sp>
        <p:nvSpPr>
          <p:cNvPr id="46" name="PlaceHolder 2"/>
          <p:cNvSpPr>
            <a:spLocks noGrp="1"/>
          </p:cNvSpPr>
          <p:nvPr>
            <p:ph/>
          </p:nvPr>
        </p:nvSpPr>
        <p:spPr>
          <a:xfrm>
            <a:off x="250920" y="1832040"/>
            <a:ext cx="9658080" cy="540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ome signs of bulimia are:</a:t>
            </a:r>
            <a:endParaRPr b="0" lang="en-US" sz="27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2700" spc="-1" strike="noStrike">
                <a:solidFill>
                  <a:srgbClr val="ffffff"/>
                </a:solidFill>
                <a:latin typeface="Comic Sans MS"/>
              </a:rPr>
              <a:t>Dehydration</a:t>
            </a:r>
            <a:endParaRPr b="0" lang="en-US" sz="27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ever dental erosio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Swollen checks</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kipping meals</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ome symptoms of Bulimia are:</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epressio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oss of self esteem </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Paleness of ski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Electrolyte imbalance (can lead to cardiac arrest or de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ng Term Effects</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A healthy diet is very important.  Seeing a therapist is also helpful.  For the rest of their lives they will have to work towards being comfortable with their bodies. After a while, bulimics' nails will become brittle and their hair will get thinner.  They will look very unhealthy due to their lack of vitamins and nutrients.  In the long term of bulimia, bulimics will probably develop health problems and risk death if not treat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hort Term Effect</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a:r>
            <a:r>
              <a:rPr b="0" lang="en-US" sz="2700" spc="-1" strike="noStrike">
                <a:solidFill>
                  <a:srgbClr val="000000"/>
                </a:solidFill>
                <a:latin typeface="Comic Sans MS"/>
              </a:rPr>
              <a:t>    Going to a treatment center could manage the problem.  A bulimic will always be struggling so the treatment will not stop after that.  A short term effect is losing weight.  Losing weight is usually the  reason bulimics become bulimic.  Self esteem will probably decrease to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reatment</a:t>
            </a:r>
            <a:endParaRPr b="0" lang="en-US" sz="4300" spc="-1" strike="noStrike">
              <a:solidFill>
                <a:srgbClr val="000000"/>
              </a:solidFill>
              <a:latin typeface="Times New Roman"/>
            </a:endParaRPr>
          </a:p>
        </p:txBody>
      </p:sp>
      <p:sp>
        <p:nvSpPr>
          <p:cNvPr id="52" name="PlaceHolder 2"/>
          <p:cNvSpPr>
            <a:spLocks noGrp="1"/>
          </p:cNvSpPr>
          <p:nvPr>
            <p:ph/>
          </p:nvPr>
        </p:nvSpPr>
        <p:spPr>
          <a:xfrm>
            <a:off x="237960" y="1823760"/>
            <a:ext cx="9661680" cy="5043240"/>
          </a:xfrm>
          <a:prstGeom prst="rect">
            <a:avLst/>
          </a:prstGeom>
          <a:noFill/>
          <a:ln w="0">
            <a:noFill/>
          </a:ln>
        </p:spPr>
        <p:txBody>
          <a:bodyPr lIns="0" rIns="0" tIns="0" bIns="0" anchor="t">
            <a:normAutofit fontScale="99000"/>
          </a:bodyPr>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re are no real treatments for bulimia;  there are many ways to help it but the bulimic has to put in most of the work to be able to get better.</a:t>
            </a:r>
            <a:endParaRPr b="0" lang="en-US" sz="27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way of helping stop bulimia is to go to a help center.  This can help the patient stop their habit of binging and purging.  Therapists can help heal the mental and emotional effects that bulimia has on a person.  Some help center examples are:  Center for change, Victorian of Newport beach</a:t>
            </a:r>
            <a:endParaRPr b="0" lang="en-US" sz="27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diet of a bulimic is to binge on food and then purge themselves by self inducing vomitiong.  Recovering bulimics should eat a helthy diet that usually should not go under 1,600 calories per da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reatment (continued)</a:t>
            </a:r>
            <a:endParaRPr b="0" lang="en-US" sz="4300" spc="-1" strike="noStrike">
              <a:solidFill>
                <a:srgbClr val="000000"/>
              </a:solidFill>
              <a:latin typeface="Times New Roman"/>
            </a:endParaRPr>
          </a:p>
        </p:txBody>
      </p:sp>
      <p:sp>
        <p:nvSpPr>
          <p:cNvPr id="54" name="PlaceHolder 2"/>
          <p:cNvSpPr>
            <a:spLocks noGrp="1"/>
          </p:cNvSpPr>
          <p:nvPr>
            <p:ph/>
          </p:nvPr>
        </p:nvSpPr>
        <p:spPr>
          <a:xfrm>
            <a:off x="237960" y="1824120"/>
            <a:ext cx="9661680" cy="4860720"/>
          </a:xfrm>
          <a:prstGeom prst="rect">
            <a:avLst/>
          </a:prstGeom>
          <a:noFill/>
          <a:ln w="0">
            <a:noFill/>
          </a:ln>
        </p:spPr>
        <p:txBody>
          <a:bodyPr lIns="0" rIns="0" tIns="0" bIns="0" anchor="t">
            <a:normAutofit fontScale="99000"/>
          </a:bodyPr>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overing bulimics should excercise regularly but not over excercise.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dicines can be prescribed to recovering bulimics and are most likely used to higher the serotonin levels in the brain.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Family support is a very important factor for bulimics.  Self esteem is a large issue with bulimics so having a comfortable enviornment could play a key role in their recovery.</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impact will change the relationship between the individual and family forever, but that doesnt mean that they can't resolve their problems.  The family will have to constantly help the bulimic with their self esteem and eating issues.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family will have to adjust their lifestyle for the bulimic.  They will have to learn more about the disease in order to help the bulim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307800"/>
            <a:ext cx="9658080" cy="1236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3 WOW's</a:t>
            </a:r>
            <a:endParaRPr b="0" lang="en-US" sz="4300" spc="-1" strike="noStrike">
              <a:solidFill>
                <a:srgbClr val="000000"/>
              </a:solidFill>
              <a:latin typeface="Times New Roman"/>
            </a:endParaRPr>
          </a:p>
        </p:txBody>
      </p:sp>
      <p:sp>
        <p:nvSpPr>
          <p:cNvPr id="56" name="PlaceHolder 2"/>
          <p:cNvSpPr>
            <a:spLocks noGrp="1"/>
          </p:cNvSpPr>
          <p:nvPr>
            <p:ph/>
          </p:nvPr>
        </p:nvSpPr>
        <p:spPr>
          <a:xfrm>
            <a:off x="250920" y="1832040"/>
            <a:ext cx="9658080" cy="4689360"/>
          </a:xfrm>
          <a:prstGeom prst="rect">
            <a:avLst/>
          </a:prstGeom>
          <a:noFill/>
          <a:ln w="0">
            <a:noFill/>
          </a:ln>
        </p:spPr>
        <p:txBody>
          <a:bodyPr lIns="0" rIns="0" tIns="0" bIns="0" anchor="t">
            <a:normAutofit/>
          </a:bodyPr>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a is a lot more dangerous than it seems. An example is what the acids in your stomach can do. They deteriorates the different layers of your stomach and make holes called ulcers. The acid in your stomach can also tear holes in your esophagus because it isn’t supposed to handle stomach acid. -Brand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 </a:t>
            </a:r>
            <a:endParaRPr b="0" lang="en-US" sz="21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a is more common in adolsecent girls and young women and can affect people of practically any age. -Alina</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 </a:t>
            </a:r>
            <a:endParaRPr b="0" lang="en-US" sz="21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cs will always be struggling with their sickness.  I also learned that their are no real cures for bulimia, but pills can be taken to help raise the seratonin levels in the brain. -Kell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Biblography</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015560"/>
            <a:ext cx="9659880" cy="62816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Works Cited</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Bulimia Nervosa: Signs, Symptoms, Treatment, and Help." </a:t>
            </a:r>
            <a:r>
              <a:rPr b="0" i="1" lang="en-US" sz="1300" spc="-1" strike="noStrike">
                <a:solidFill>
                  <a:srgbClr val="ffffff"/>
                </a:solidFill>
                <a:latin typeface="'Times New Roman'"/>
              </a:rPr>
              <a:t>Helpguide.org: Expert, ad-free articles help empower you with knowledge, support &amp; hope.</a:t>
            </a:r>
            <a:r>
              <a:rPr b="0" lang="en-US" sz="1300" spc="-1" strike="noStrike">
                <a:solidFill>
                  <a:srgbClr val="ffffff"/>
                </a:solidFill>
                <a:latin typeface="'Times New Roman'"/>
              </a:rPr>
              <a:t>. N.p., n.d. Web. 2 Sept. 2011. &lt;http://helpguide.org/mental/bulimia_signs_symptoms_causes_treatment.htm&g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Diet Plans For Bulimia | LIVESTRONG.COM." </a:t>
            </a:r>
            <a:r>
              <a:rPr b="0" i="1" lang="en-US" sz="1300" spc="-1" strike="noStrike">
                <a:solidFill>
                  <a:srgbClr val="ffffff"/>
                </a:solidFill>
                <a:latin typeface="'Times New Roman'"/>
              </a:rPr>
              <a:t>LIVESTRONG.COM - Lose Weight &amp; Get Fit with Diet, Nutrition &amp; Fitness Tools</a:t>
            </a:r>
            <a:r>
              <a:rPr b="0" lang="en-US" sz="1300" spc="-1" strike="noStrike">
                <a:solidFill>
                  <a:srgbClr val="ffffff"/>
                </a:solidFill>
                <a:latin typeface="'Times New Roman'"/>
              </a:rPr>
              <a:t>. N.p., n.d. Web. 2 Sept. 2011. &lt;http://www.livestrong.com/article/278190&g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ating Disorder Treatment | Inpatient Eating Disorder Treatment | Center for Change." </a:t>
            </a:r>
            <a:r>
              <a:rPr b="0" i="1" lang="en-US" sz="1300" spc="-1" strike="noStrike">
                <a:solidFill>
                  <a:srgbClr val="ffffff"/>
                </a:solidFill>
                <a:latin typeface="'Times New Roman'"/>
              </a:rPr>
              <a:t>Eating Disorder Treatment | Inpatient Eating Disorder Treatment | Center for Change</a:t>
            </a:r>
            <a:r>
              <a:rPr b="0" lang="en-US" sz="1300" spc="-1" strike="noStrike">
                <a:solidFill>
                  <a:srgbClr val="ffffff"/>
                </a:solidFill>
                <a:latin typeface="'Times New Roman'"/>
              </a:rPr>
              <a:t>. N.p., n.d. Web. 2 Sept. 2011. </a:t>
            </a:r>
            <a:r>
              <a:rPr b="0" lang="en-US" sz="1300" spc="-1" strike="noStrike" u="sng">
                <a:solidFill>
                  <a:srgbClr val="ccccff"/>
                </a:solidFill>
                <a:uFillTx/>
                <a:latin typeface="'Times New Roman'"/>
              </a:rPr>
              <a:t>http://www.centerforchange.com/</a:t>
            </a:r>
            <a:r>
              <a:rPr b="0" lang="en-US" sz="1300" spc="-1" strike="noStrike">
                <a:solidFill>
                  <a:srgbClr val="ffffff"/>
                </a:solidFill>
                <a:latin typeface="'Times New Roman'"/>
              </a:rPr>
              <a: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ating Disorder Treatment | Inpatient Eating Disorder Treatment | Center for Change." </a:t>
            </a:r>
            <a:r>
              <a:rPr b="0" i="1" lang="en-US" sz="1300" spc="-1" strike="noStrike">
                <a:solidFill>
                  <a:srgbClr val="ffffff"/>
                </a:solidFill>
                <a:latin typeface="'Times New Roman'"/>
              </a:rPr>
              <a:t>Eating Disorder Treatment | Inpatient Eating Disorder Treatment | Center for Change</a:t>
            </a:r>
            <a:r>
              <a:rPr b="0" lang="en-US" sz="1300" spc="-1" strike="noStrike">
                <a:solidFill>
                  <a:srgbClr val="ffffff"/>
                </a:solidFill>
                <a:latin typeface="'Times New Roman'"/>
              </a:rPr>
              <a:t>. N.p., n.d. Web. 2 Sept. 2011. </a:t>
            </a:r>
            <a:r>
              <a:rPr b="0" lang="en-US" sz="1300" spc="-1" strike="noStrike" u="sng">
                <a:solidFill>
                  <a:srgbClr val="ccccff"/>
                </a:solidFill>
                <a:uFillTx/>
                <a:latin typeface="'Times New Roman'"/>
              </a:rPr>
              <a:t>http://www.centerforchange.com/</a:t>
            </a:r>
            <a:r>
              <a:rPr b="0" lang="en-US" sz="1300" spc="-1" strike="noStrike">
                <a:solidFill>
                  <a:srgbClr val="ffffff"/>
                </a:solidFill>
                <a:latin typeface="'Times New Roman'"/>
              </a:rPr>
              <a: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